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6.wmf" ContentType="image/x-wmf"/>
  <Override PartName="/ppt/media/image12.jpeg" ContentType="image/jpeg"/>
  <Override PartName="/ppt/media/image5.wmf" ContentType="image/x-wmf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6.jpeg" ContentType="image/jpeg"/>
  <Override PartName="/ppt/media/image20.wmf" ContentType="image/x-wmf"/>
  <Override PartName="/ppt/media/image1.wmf" ContentType="image/x-wmf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wmf" ContentType="image/x-wm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3CAB-CB25-483B-9938-2FAFA6557C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se tennis courts were surrounded by apartment buildings. Hitting a ball made quite a loud noise. In Japan in many schools pupils learn to play “soft tennis” , using a soft tennis ball, which makes the game slower, less loud and easier to 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49C3-FA84-4A0D-B18C-BF710CE8C7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7484-5A07-4E7D-A129-403EBFA288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3173-A6C6-4E6E-8769-71A2923DC5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0F5A-19EA-4160-8CFE-0914C4BB94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286A-1244-4FB9-9F6F-98F546052C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A09A-14BE-4973-AD8A-B2029D06A6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19AF-B89C-40A6-B440-E4BA79C72E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0E52-20A8-42B6-97DF-1FDD05236D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761F-87F8-44DA-A4C5-708742DC1C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9B63-4D75-44B1-9F6D-9502901131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0629-9D43-4BF0-ACFF-84FA4023A2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3398-B8DF-46E3-B939-E60B44EAE3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B31-7A82-423B-8529-3FC48911DF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14E3-6B0D-4B95-B5E2-B4E424D366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1BFF-6990-4567-83D2-36B23C3EDB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E238-E7B4-491E-8587-CD59C492C9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EE14-C51E-43DD-8EB8-E60B586FFE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3837-9960-45F9-9350-5AB5180AE4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FA79-F0D5-48E5-93F4-733571080A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5A31-29AB-4A12-A8DC-43881AD03A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A273-4980-4316-999D-326EA3F46A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1017-96FB-4590-8992-F23562FEAC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942F-C383-4C17-A39D-D111BBA129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028-E0CF-4CC2-B828-13808D5D47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2A9-BBEE-4295-8BE3-5663F951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995-6758-4AB3-807B-690A5754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F70-52E6-41D3-965B-C943CDEC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65F-8473-4779-A308-48FF8412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7F7-E852-47D5-A33D-53C30C95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78A-CE16-40E0-8328-84EED0F2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ABC-1EE9-4476-8A0A-E68A1F43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F8B-03D5-4EAB-8501-56CC0464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F3B-3DC2-4065-AA94-9D99D676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4B8-C70A-4AA6-BBF2-4907F111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825-6192-4B6E-A813-4E3C7290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9D3-BE33-4CA6-BC34-CDF76643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2E3-3E9B-476A-B58F-A1BBC700ED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s://www.arttodayjapan.com/entry.php?type=p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84520" y="2060640"/>
            <a:ext cx="630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66"/>
                </a:solidFill>
                <a:latin typeface="Arial"/>
                <a:ea typeface="NtMotoyaKyotai"/>
              </a:rPr>
              <a:t>カタカナ</a:t>
            </a:r>
            <a:r>
              <a:rPr b="1" lang="en-GB" sz="9600" spc="-1" strike="noStrike">
                <a:solidFill>
                  <a:srgbClr val="ffff66"/>
                </a:solidFill>
                <a:latin typeface="Arial"/>
                <a:ea typeface="MS Gothic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8160" y="386064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99"/>
                </a:solidFill>
                <a:latin typeface="Arial"/>
                <a:ea typeface="NtMotoyaKyotai"/>
              </a:rPr>
              <a:t>まち と み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90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3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3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99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7040520" y="260280"/>
            <a:ext cx="2374920" cy="3165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32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70" name="テキスト プレースホルダ 2" descr=""/>
          <p:cNvPicPr/>
          <p:nvPr/>
        </p:nvPicPr>
        <p:blipFill>
          <a:blip r:embed="rId3"/>
          <a:stretch/>
        </p:blipFill>
        <p:spPr>
          <a:xfrm>
            <a:off x="5673600" y="368316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657600" y="260280"/>
            <a:ext cx="2776680" cy="371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4273560"/>
            <a:ext cx="5961240" cy="2386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81240" y="1413000"/>
            <a:ext cx="792000" cy="1439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512160" y="5922000"/>
            <a:ext cx="792000" cy="107964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3981600" y="-135000"/>
            <a:ext cx="792000" cy="1440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7365600" y="3752640"/>
            <a:ext cx="648000" cy="863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120880" y="189720"/>
            <a:ext cx="792000" cy="10792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9240" y="333360"/>
            <a:ext cx="4968720" cy="3770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16160" y="501336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ぐらうん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28880" y="4365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gr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9240" y="501336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グラウン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フリーフォーム 15"/>
          <p:cNvSpPr/>
          <p:nvPr/>
        </p:nvSpPr>
        <p:spPr>
          <a:xfrm rot="18900000">
            <a:off x="2583000" y="2623680"/>
            <a:ext cx="2420640" cy="65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フリーフォーム 19"/>
          <p:cNvSpPr/>
          <p:nvPr/>
        </p:nvSpPr>
        <p:spPr>
          <a:xfrm>
            <a:off x="6738840" y="1447920"/>
            <a:ext cx="619200" cy="622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フリーフォーム 21"/>
          <p:cNvSpPr/>
          <p:nvPr/>
        </p:nvSpPr>
        <p:spPr>
          <a:xfrm>
            <a:off x="6381720" y="17431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フリーフォーム 16"/>
          <p:cNvSpPr/>
          <p:nvPr/>
        </p:nvSpPr>
        <p:spPr>
          <a:xfrm>
            <a:off x="4692600" y="1954080"/>
            <a:ext cx="1682640" cy="3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フリーフォーム 17"/>
          <p:cNvSpPr/>
          <p:nvPr/>
        </p:nvSpPr>
        <p:spPr>
          <a:xfrm rot="18900000">
            <a:off x="2447640" y="3607920"/>
            <a:ext cx="4637160" cy="865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24160" y="1197000"/>
            <a:ext cx="3816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ぐ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160200" y="1341360"/>
            <a:ext cx="6492600" cy="6985080"/>
          </a:xfrm>
          <a:prstGeom prst="rect">
            <a:avLst/>
          </a:prstGeom>
          <a:ln w="0">
            <a:noFill/>
          </a:ln>
        </p:spPr>
      </p:pic>
      <p:sp>
        <p:nvSpPr>
          <p:cNvPr id="189" name="フリーフォーム 5"/>
          <p:cNvSpPr/>
          <p:nvPr/>
        </p:nvSpPr>
        <p:spPr>
          <a:xfrm rot="18900000">
            <a:off x="2649240" y="2623680"/>
            <a:ext cx="2422440" cy="658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フリーフォーム 7"/>
          <p:cNvSpPr/>
          <p:nvPr/>
        </p:nvSpPr>
        <p:spPr>
          <a:xfrm>
            <a:off x="4761000" y="1955880"/>
            <a:ext cx="1682640" cy="38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フリーフォーム 12"/>
          <p:cNvSpPr/>
          <p:nvPr/>
        </p:nvSpPr>
        <p:spPr>
          <a:xfrm rot="18900000">
            <a:off x="2516040" y="3607920"/>
            <a:ext cx="4635720" cy="86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9724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ク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5157720"/>
            <a:ext cx="31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ooks like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c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k’s h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90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4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900"/>
                            </p:stCondLst>
                            <p:childTnLst>
                              <p:par>
                                <p:cTn id="4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199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300"/>
                            </p:stCondLst>
                            <p:childTnLst>
                              <p:par>
                                <p:cTn id="4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8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30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フリーフォーム 6"/>
          <p:cNvSpPr/>
          <p:nvPr/>
        </p:nvSpPr>
        <p:spPr>
          <a:xfrm>
            <a:off x="4495680" y="1623960"/>
            <a:ext cx="522360" cy="107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フリーフォーム 10"/>
          <p:cNvSpPr/>
          <p:nvPr/>
        </p:nvSpPr>
        <p:spPr>
          <a:xfrm>
            <a:off x="3218040" y="2584440"/>
            <a:ext cx="366480" cy="15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フリーフォーム 11"/>
          <p:cNvSpPr/>
          <p:nvPr/>
        </p:nvSpPr>
        <p:spPr>
          <a:xfrm>
            <a:off x="3490920" y="2373480"/>
            <a:ext cx="3106800" cy="57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フリーフォーム 13"/>
          <p:cNvSpPr/>
          <p:nvPr/>
        </p:nvSpPr>
        <p:spPr>
          <a:xfrm rot="18900000">
            <a:off x="3409560" y="3649680"/>
            <a:ext cx="3989520" cy="104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97240" y="981000"/>
            <a:ext cx="32716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う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2160" y="981000"/>
            <a:ext cx="5614920" cy="3225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5240" y="5013360"/>
            <a:ext cx="54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れすとら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76520" y="508464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レストラ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5256000" cy="5099040"/>
          </a:xfrm>
          <a:prstGeom prst="rect">
            <a:avLst/>
          </a:prstGeom>
          <a:ln w="0">
            <a:noFill/>
          </a:ln>
        </p:spPr>
      </p:pic>
      <p:sp>
        <p:nvSpPr>
          <p:cNvPr id="210" name="フリーフォーム 6"/>
          <p:cNvSpPr/>
          <p:nvPr/>
        </p:nvSpPr>
        <p:spPr>
          <a:xfrm>
            <a:off x="4502160" y="1052640"/>
            <a:ext cx="522360" cy="1073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フリーフォーム 10"/>
          <p:cNvSpPr/>
          <p:nvPr/>
        </p:nvSpPr>
        <p:spPr>
          <a:xfrm>
            <a:off x="3224160" y="2013120"/>
            <a:ext cx="366840" cy="1519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フリーフォーム 11"/>
          <p:cNvSpPr/>
          <p:nvPr/>
        </p:nvSpPr>
        <p:spPr>
          <a:xfrm>
            <a:off x="3497400" y="1801800"/>
            <a:ext cx="3106440" cy="574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フリーフォーム 13"/>
          <p:cNvSpPr/>
          <p:nvPr/>
        </p:nvSpPr>
        <p:spPr>
          <a:xfrm rot="18900000">
            <a:off x="3416400" y="3077640"/>
            <a:ext cx="3989160" cy="104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6880" y="189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ウ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“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mph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546880"/>
            <a:ext cx="990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old woman carring a heavy pack on her back. “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mp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400"/>
                            </p:stCondLst>
                            <p:childTnLst>
                              <p:par>
                                <p:cTn id="4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90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400"/>
                            </p:stCondLst>
                            <p:childTnLst>
                              <p:par>
                                <p:cTn id="5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900"/>
                            </p:stCondLst>
                            <p:childTnLst>
                              <p:par>
                                <p:cTn id="5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220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77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770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5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フリーフォーム 6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フリーフォーム 12"/>
          <p:cNvSpPr/>
          <p:nvPr/>
        </p:nvSpPr>
        <p:spPr>
          <a:xfrm>
            <a:off x="6451560" y="182880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フリーフォーム 13"/>
          <p:cNvSpPr/>
          <p:nvPr/>
        </p:nvSpPr>
        <p:spPr>
          <a:xfrm>
            <a:off x="6000840" y="220680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フリーフォーム 11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224160" y="1557360"/>
            <a:ext cx="40338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ど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295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400"/>
                            </p:stCondLst>
                            <p:childTnLst>
                              <p:par>
                                <p:cTn id="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900"/>
                            </p:stCondLst>
                            <p:childTnLst>
                              <p:par>
                                <p:cTn id="6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521240" y="0"/>
            <a:ext cx="514656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img140 jpg"/>
          <p:cNvPicPr/>
          <p:nvPr/>
        </p:nvPicPr>
        <p:blipFill>
          <a:blip r:embed="rId2"/>
          <a:stretch/>
        </p:blipFill>
        <p:spPr>
          <a:xfrm>
            <a:off x="200160" y="3645000"/>
            <a:ext cx="3816360" cy="28512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631800" y="404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rot="16200000">
            <a:off x="1640520" y="908640"/>
            <a:ext cx="57600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2756520" y="5193360"/>
            <a:ext cx="720720" cy="208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5097240" y="1989000"/>
            <a:ext cx="503280" cy="792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5097240" y="4436640"/>
            <a:ext cx="503280" cy="792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84880" y="2744640"/>
            <a:ext cx="433440" cy="792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012880" y="4257000"/>
            <a:ext cx="432000" cy="7920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6622200" y="6367680"/>
            <a:ext cx="47628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623880"/>
            <a:ext cx="5638680" cy="4014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649600" y="5013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bak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89600" y="3068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パン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61240" y="299736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ぱん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フリーフォーム 7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フリーフォーム 8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フリーフォーム 10"/>
          <p:cNvSpPr/>
          <p:nvPr/>
        </p:nvSpPr>
        <p:spPr>
          <a:xfrm rot="1200000">
            <a:off x="6517800" y="180324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フリーフォーム 11"/>
          <p:cNvSpPr/>
          <p:nvPr/>
        </p:nvSpPr>
        <p:spPr>
          <a:xfrm rot="1200000">
            <a:off x="6375240" y="2225160"/>
            <a:ext cx="424080" cy="40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フリーフォーム 12"/>
          <p:cNvSpPr/>
          <p:nvPr/>
        </p:nvSpPr>
        <p:spPr>
          <a:xfrm rot="1200000">
            <a:off x="6897240" y="194796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フリーフォーム 13"/>
          <p:cNvSpPr/>
          <p:nvPr/>
        </p:nvSpPr>
        <p:spPr>
          <a:xfrm rot="1200000">
            <a:off x="6761160" y="2361960"/>
            <a:ext cx="43992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500"/>
                            </p:stCondLst>
                            <p:childTnLst>
                              <p:par>
                                <p:cTn id="7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0"/>
                            </p:stCondLst>
                            <p:childTnLst>
                              <p:par>
                                <p:cTn id="7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321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700"/>
                            </p:stCondLst>
                            <p:childTnLst>
                              <p:par>
                                <p:cTn id="7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200"/>
                            </p:stCondLst>
                            <p:childTnLst>
                              <p:par>
                                <p:cTn id="8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フリーフォーム 4"/>
          <p:cNvSpPr/>
          <p:nvPr/>
        </p:nvSpPr>
        <p:spPr>
          <a:xfrm rot="18000000">
            <a:off x="2500920" y="2656440"/>
            <a:ext cx="3085920" cy="21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7"/>
          <p:cNvSpPr/>
          <p:nvPr/>
        </p:nvSpPr>
        <p:spPr>
          <a:xfrm rot="18000000">
            <a:off x="3835440" y="3703320"/>
            <a:ext cx="3200400" cy="123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68520" y="1268280"/>
            <a:ext cx="359892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れ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329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7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9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816520" y="3790800"/>
            <a:ext cx="4089600" cy="30672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619600" y="0"/>
            <a:ext cx="4286520" cy="3610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272880" y="18900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2360520" y="549360"/>
            <a:ext cx="3276720" cy="4371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3657600" y="4581360"/>
            <a:ext cx="3048120" cy="20480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0" y="3716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 rot="16200000">
            <a:off x="6896880" y="763920"/>
            <a:ext cx="57636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7472880" y="4148640"/>
            <a:ext cx="50328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08160" y="1413000"/>
            <a:ext cx="503280" cy="7920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1309600">
            <a:off x="128520" y="765000"/>
            <a:ext cx="57636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880520" y="5301360"/>
            <a:ext cx="50328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96880" y="3789360"/>
            <a:ext cx="503280" cy="7920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70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-360" y="5300640"/>
            <a:ext cx="8888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907920"/>
          <a:ext cx="9906120" cy="5334120"/>
        </p:xfrm>
        <a:graphic>
          <a:graphicData uri="http://schemas.openxmlformats.org/drawingml/2006/table">
            <a:tbl>
              <a:tblPr/>
              <a:tblGrid>
                <a:gridCol w="662040"/>
                <a:gridCol w="660240"/>
                <a:gridCol w="660600"/>
                <a:gridCol w="658800"/>
                <a:gridCol w="662040"/>
                <a:gridCol w="660240"/>
                <a:gridCol w="658800"/>
                <a:gridCol w="660600"/>
                <a:gridCol w="661680"/>
                <a:gridCol w="658800"/>
                <a:gridCol w="660600"/>
                <a:gridCol w="660240"/>
                <a:gridCol w="662040"/>
                <a:gridCol w="658800"/>
                <a:gridCol w="66060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や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あ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イ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ゆ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つ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え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よ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お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2649600" y="119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49600" y="112536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13240" y="544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961240" y="544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880" y="1197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905600" y="32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309240" y="3068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32976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61240" y="5445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77240" y="32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13240" y="544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4880" y="119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84520" y="0"/>
            <a:ext cx="6119640" cy="82512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MS UI Gothic"/>
              </a:rPr>
              <a:t>今日のあたらしいカタカ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77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4" dur="770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6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8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77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5" dur="770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7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9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0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2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4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77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5" dur="770" fill="hold"/>
                                        <p:tgtEl>
                                          <p:spTgt spid="4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7" dur="77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9" dur="77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77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770" fill="hold"/>
                                        <p:tgtEl>
                                          <p:spTgt spid="4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2" dur="77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4" dur="77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77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5" dur="770" fill="hold"/>
                                        <p:tgtEl>
                                          <p:spTgt spid="4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7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9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77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770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2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4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909400">
            <a:off x="2792160" y="475920"/>
            <a:ext cx="5429160" cy="5472000"/>
          </a:xfrm>
          <a:prstGeom prst="rect">
            <a:avLst/>
          </a:prstGeom>
          <a:ln w="0">
            <a:noFill/>
          </a:ln>
        </p:spPr>
      </p:pic>
      <p:sp>
        <p:nvSpPr>
          <p:cNvPr id="57" name="フリーフォーム 4"/>
          <p:cNvSpPr/>
          <p:nvPr/>
        </p:nvSpPr>
        <p:spPr>
          <a:xfrm rot="18000000">
            <a:off x="2991600" y="1861200"/>
            <a:ext cx="3085920" cy="2189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フリーフォーム 7"/>
          <p:cNvSpPr/>
          <p:nvPr/>
        </p:nvSpPr>
        <p:spPr>
          <a:xfrm rot="18000000">
            <a:off x="4325760" y="2908080"/>
            <a:ext cx="3200400" cy="1238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レ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81240" y="5805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is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cord is bro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85240" y="22122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125800" y="947880"/>
            <a:ext cx="87660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91800" y="3013200"/>
            <a:ext cx="9720" cy="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と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81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4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Ministry of Education</cp:lastModifiedBy>
  <dcterms:modified xsi:type="dcterms:W3CDTF">2009-08-08T11:57:47Z</dcterms:modified>
  <cp:revision>72</cp:revision>
  <dc:subject/>
  <dc:title>スライド 1</dc:title>
</cp:coreProperties>
</file>